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797520" cy="9874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76">
                <a:moveTo>
                  <a:pt x="5" y="0"/>
                </a:moveTo>
                <a:arcTo wR="5" hR="5" stAng="16200000" swAng="-5400000"/>
                <a:lnTo>
                  <a:pt x="0" y="31371"/>
                </a:lnTo>
                <a:arcTo wR="5" hR="5" stAng="10800000" swAng="-5400000"/>
                <a:lnTo>
                  <a:pt x="21595" y="3137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31680" y="74088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9320" y="4691160"/>
            <a:ext cx="543744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0" y="9377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3849840" y="937872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7D5EC-2AB3-444E-B1CE-5EB05935D6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2ED29-708F-4EEA-BC9E-68A1E1FA9F85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FA724C-9D7A-445A-B599-43E9CCA7A4F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1133640" y="741240"/>
            <a:ext cx="4530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BD420-371E-4E84-B277-93AB1338324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691958-222D-4227-BB61-28867B8AF8CC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33640" y="741240"/>
            <a:ext cx="4530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872AC-F8B7-418B-8591-D697B6120753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A2AE7-C323-4396-85F4-E41FF094F4D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E5B65-9EB1-4586-96D9-95263A3CEA87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1133640" y="741240"/>
            <a:ext cx="4530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7ADE8-C311-4F08-815D-2067E1204A57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EE7D3-EC1A-4685-A2FF-21F56BB37471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67CFE-DC30-46BD-AE75-64901FB5925B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A0428-84FC-4738-879C-FC662D449232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B4804-ECAE-4307-AEA2-48EF9220CD8C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DF5081-66A6-4F4A-A718-261DABA4AE29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379080"/>
            <a:ext cx="2944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F90AF-E2BD-41E4-9715-027A9C20B97A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D7B877-A1E1-452A-B09F-5984779F836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33640" y="741240"/>
            <a:ext cx="453060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25D6C-2161-4089-8D2D-9E59C6762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68280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71DC-7599-42B8-A024-27DCDAAC4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76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D99D-24FC-4DE1-9B4E-95981FCF4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608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816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608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816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3B83-08C1-4B80-AC63-0F4091B9E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1432-AA7E-4F6B-88D0-20D2DD125C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676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24000" y="368280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676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608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8160" y="112536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2400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608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8160" y="3682800"/>
            <a:ext cx="2734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AA46-2EB6-43DC-9612-B4B66F077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51BF-5BDE-4589-B47D-A6337E84B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87B4-2F35-4DBC-AECA-65E2A3ADA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2560" cy="45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4D61-0E9F-41A7-B8C9-8B6357A05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70F6-3027-4E09-821C-DB82AEE36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760" y="368280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4FE4-EE72-4F3A-97A1-E97CB122F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125360"/>
            <a:ext cx="41450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682800"/>
            <a:ext cx="84945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4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0F2B-C0CC-4248-AB3F-D2FA1F86E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-12600" y="6210360"/>
            <a:ext cx="9156600" cy="64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06728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EB38E8-4B50-4956-8C99-0475ADB946F9}" type="slidenum">
              <a:rPr b="0" lang="en-GB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" descr=""/>
          <p:cNvPicPr/>
          <p:nvPr/>
        </p:nvPicPr>
        <p:blipFill>
          <a:blip r:embed="rId2"/>
          <a:stretch/>
        </p:blipFill>
        <p:spPr>
          <a:xfrm>
            <a:off x="-12600" y="115920"/>
            <a:ext cx="9156600" cy="6476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2560" cy="979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4000" y="1125360"/>
            <a:ext cx="84945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4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4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-i11.informatik.rwth-aachen.de/index.php?id=med_ws0708" TargetMode="External"/><Relationship Id="rId2" Type="http://schemas.openxmlformats.org/officeDocument/2006/relationships/hyperlink" Target="https://www.elearning.rwth-aachen.de/" TargetMode="External"/><Relationship Id="rId3" Type="http://schemas.openxmlformats.org/officeDocument/2006/relationships/hyperlink" Target="https://www.elearning.rwth-aachen.de/" TargetMode="External"/><Relationship Id="rId4" Type="http://schemas.openxmlformats.org/officeDocument/2006/relationships/hyperlink" Target="https://www.elearning.rwth-aachen.de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0" y="1125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400" spc="-1" strike="noStrike">
                <a:solidFill>
                  <a:srgbClr val="0066cc"/>
                </a:solidFill>
                <a:latin typeface="Arial"/>
              </a:rPr>
              <a:t>Mobile Device Desig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68360" y="3573360"/>
            <a:ext cx="828036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. Carsten Weis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pl.-Inform. Jianmin L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bedded Software Labora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Chair of Computer Science 11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WTH Aach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258920" y="3141720"/>
            <a:ext cx="6400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95280" y="6093000"/>
            <a:ext cx="835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7.10.2007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06728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7656AA-15D8-4747-A873-42EB291CBEE2}" type="slidenum">
              <a:rPr b="1" lang="en-GB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racteristics of Mobile Applic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ocation Awaren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twork Connec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straint Device Capabilities(particularly storage and CPU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imited Power Supp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riety of User Interfa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tform Prolife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000080" y="500040"/>
          <a:ext cx="7174080" cy="5346720"/>
        </p:xfrm>
        <a:graphic>
          <a:graphicData uri="http://schemas.openxmlformats.org/drawingml/2006/table">
            <a:tbl>
              <a:tblPr/>
              <a:tblGrid>
                <a:gridCol w="1255680"/>
                <a:gridCol w="560520"/>
                <a:gridCol w="4027320"/>
                <a:gridCol w="1330560"/>
              </a:tblGrid>
              <a:tr h="52380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e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319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Communication System Standard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O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OS: Windows Mobile and Symbian O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rowSpan="4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war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fetching Access in Mobile Databas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e Middlewar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bile Security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Agent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rowSpan="3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Navigation System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E-Commerc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e Virtual Enterpris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 rowSpan="4"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men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Architecture for Mobile Distributed System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 Interface Design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2ME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lnSpc>
                          <a:spcPct val="124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topia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 of Mobile Applications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06728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011C7E-69E5-4993-B83B-C68FFA4F5AC0}" type="slidenum">
              <a:rPr b="1" lang="en-GB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24000" y="105264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Arial"/>
              </a:rPr>
              <a:t>Questions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06728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338A67F-BEF3-4AEE-B6E1-D66039558063}" type="slidenum">
              <a:rPr b="1" lang="en-GB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rganisational issues /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lock Semina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Where? 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Jugendherberge in Blankenheim (located in the almost 900 year-old Grafenburg castle directly in the Northern Eifel nature park)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When?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11.02.2008 -12.02.2008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Cost ?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15 Euro per person (financing problem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please contact Prof. Kowalewski or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DejaVu Sans"/>
              </a:rPr>
              <a:t>Dr. Weise)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516720" y="2852640"/>
            <a:ext cx="18302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ganistional Issues /2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ting familiar with the given topic on your own (in close agreement with the tutor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ten elaboration papers (German or English) of 10-15 pages per person using our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laboration papers and the slides must be composed by yourself only. You must specify all sources and aids as well as indicate all qu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(German or English) of 30 minutes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of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ganistional Issues /3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496360" cy="52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Deadl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strict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you can send your files via email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7-11-10: additional literature 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7-11-30: structure and short abstract for every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8-01-10: written elaboration papers and 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 the Declaration of Compliance after the reading of  the Ethical Guidelines for the Authoring of Academic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bsite: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ink to Webpage</a:t>
            </a:r>
            <a:br>
              <a:rPr sz="2400"/>
            </a:b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2P: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-Learning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ganistional Issues /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. Carsten We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ploma RWTH A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er at Lehrstuhl für Informatik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istant Professor at BRICS, Univ Aalborg (Denmark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Manager, Group Manager, Technical Coordinator at Ericsson G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Proj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Adaptive Protocol Stacks and Model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                   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Ro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Main Responsible at Embedded Systems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550"/>
              </a:spcBef>
              <a:buClr>
                <a:srgbClr val="0066cc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eise(at)cs.rwth-aachen.de, +49 241 80 21 1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187280" y="3716280"/>
            <a:ext cx="1152720" cy="389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187280" y="4149720"/>
            <a:ext cx="1152720" cy="38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982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Organistional Issues /5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pl.Inform. Jianmin 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ploma in Computer Science RWTH Aa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ality: Embedd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.D Student at Lehrstuhl für Informatik X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GB" sz="2000" spc="-1" strike="noStrike">
                <a:solidFill>
                  <a:srgbClr val="0066cc"/>
                </a:solidFill>
                <a:latin typeface="Arial"/>
              </a:rPr>
              <a:t>Proj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Software Architectures for Massiv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Arial"/>
              <a:buChar char="-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act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(at)cs.rwth-aachen.de, +49 241 80 21 1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1187280" y="3141720"/>
            <a:ext cx="1152720" cy="38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What will you benefit from this seminar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Night in the historical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tificate, Credit or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, scientific wor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ny Discu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ation for the Master/Diplom 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=&gt; Enjoy your opportunity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151200"/>
            <a:ext cx="9144000" cy="1282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hat is a Mobile Device?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496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Mobile Device = a portable device used for communicatio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for running applications, such as a PDA, a cell phone, or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smartphone (often with means of wireless communication)</a:t>
            </a:r>
            <a:r>
              <a:rPr b="0" lang="en-GB" sz="2400" spc="-1" strike="noStrike">
                <a:solidFill>
                  <a:srgbClr val="0066cc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http://www.aventail.com/tech_support/glossary_k-r.asp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06728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BBE1A0-3B87-42D6-BBE2-0C60B7A53464}" type="slidenum">
              <a:rPr b="1" lang="en-GB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ingebettete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Examples of Mobile Device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1197000" cy="302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3851280" y="3429000"/>
            <a:ext cx="2592360" cy="2444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2484360" y="1557360"/>
            <a:ext cx="1081080" cy="80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"/>
          <p:cNvPicPr/>
          <p:nvPr/>
        </p:nvPicPr>
        <p:blipFill>
          <a:blip r:embed="rId4"/>
          <a:stretch/>
        </p:blipFill>
        <p:spPr>
          <a:xfrm>
            <a:off x="6516720" y="1197000"/>
            <a:ext cx="1830240" cy="3024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5"/>
          <a:stretch/>
        </p:blipFill>
        <p:spPr>
          <a:xfrm>
            <a:off x="1979640" y="3213000"/>
            <a:ext cx="1641600" cy="30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/>
          <p:cNvPicPr/>
          <p:nvPr/>
        </p:nvPicPr>
        <p:blipFill>
          <a:blip r:embed="rId6"/>
          <a:stretch/>
        </p:blipFill>
        <p:spPr>
          <a:xfrm>
            <a:off x="4211640" y="1268280"/>
            <a:ext cx="2160720" cy="179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astian Schlich</dc:creator>
  <dc:description/>
  <dc:language>en-US</dc:language>
  <cp:lastModifiedBy>jianmin.li</cp:lastModifiedBy>
  <dcterms:modified xsi:type="dcterms:W3CDTF">2007-10-18T08:10:36Z</dcterms:modified>
  <cp:revision>30</cp:revision>
  <dc:subject/>
  <dc:title>Folie 1</dc:title>
</cp:coreProperties>
</file>